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0422EA-7B55-4540-A5E1-BF003C20116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686F5A-ACA4-4D92-BF1D-71267D3A580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1004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E0C2FD-7A85-45FD-BB52-E465E63024B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1004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45FAEC-77BC-4F02-8912-2767A5B6BAD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1004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2E253B-F79E-4549-BED1-A6933D71F86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1004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344470-8933-49A5-A0E9-D7997A5EA6A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100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468822-0312-4DD4-BE3F-A338D714F47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1004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E037C7-0900-4EAB-BAB4-EE3001BF52B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1004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62DE79-AD9F-443D-8F56-2BABC68C3E3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1004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CD9324-4A6D-437F-AAC1-A20B5628DE5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1004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2EA3-86F0-435C-BD50-C9ABA2210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D1D1-6EF9-41A7-B427-6A79C1EE1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194C-6D25-4920-A716-05701286E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86EC-021E-4558-BA92-D976BE34B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800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A1CB-0AE9-4EF8-9CA4-B856BAC6F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C5FA-DB8D-4852-94C9-4EC25ACAF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FBFC-0711-4988-9A90-7FCAFCA88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D973-CB47-42ED-97DB-07FB20583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8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2CED-56A0-45A2-BC0F-5BDB8F637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FA56-65EE-4F57-A702-ABF008941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4608-A174-454D-A5DA-98D15DF3A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A181-22F0-4477-B70D-35992327D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8BBC0A8-EB9E-46B8-82ED-C2D404E55CF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es.paperblog.com/perfumes-obras-maestras-en-peligro-ii-368362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"/>
          <p:cNvPicPr/>
          <p:nvPr/>
        </p:nvPicPr>
        <p:blipFill>
          <a:blip r:embed="rId1"/>
          <a:stretch/>
        </p:blipFill>
        <p:spPr>
          <a:xfrm>
            <a:off x="1260360" y="1079640"/>
            <a:ext cx="7559640" cy="521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"/>
          <p:cNvPicPr/>
          <p:nvPr/>
        </p:nvPicPr>
        <p:blipFill>
          <a:blip r:embed="rId1"/>
          <a:stretch/>
        </p:blipFill>
        <p:spPr>
          <a:xfrm>
            <a:off x="1079640" y="360360"/>
            <a:ext cx="8459640" cy="5400720"/>
          </a:xfrm>
          <a:prstGeom prst="rect">
            <a:avLst/>
          </a:prstGeom>
          <a:ln w="0">
            <a:noFill/>
          </a:ln>
        </p:spPr>
      </p:pic>
      <p:sp>
        <p:nvSpPr>
          <p:cNvPr id="50" name="Text Box 2"/>
          <p:cNvSpPr/>
          <p:nvPr/>
        </p:nvSpPr>
        <p:spPr>
          <a:xfrm>
            <a:off x="2879640" y="6119640"/>
            <a:ext cx="2735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ypeface or fo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"/>
          <p:cNvPicPr/>
          <p:nvPr/>
        </p:nvPicPr>
        <p:blipFill>
          <a:blip r:embed="rId1"/>
          <a:stretch/>
        </p:blipFill>
        <p:spPr>
          <a:xfrm>
            <a:off x="1440000" y="539640"/>
            <a:ext cx="2879640" cy="3060720"/>
          </a:xfrm>
          <a:prstGeom prst="rect">
            <a:avLst/>
          </a:prstGeom>
          <a:ln w="0">
            <a:noFill/>
          </a:ln>
        </p:spPr>
      </p:pic>
      <p:sp>
        <p:nvSpPr>
          <p:cNvPr id="52" name="Text Box 2"/>
          <p:cNvSpPr/>
          <p:nvPr/>
        </p:nvSpPr>
        <p:spPr>
          <a:xfrm>
            <a:off x="6119640" y="720720"/>
            <a:ext cx="30607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gotipo/nombre del produ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6119640" y="1440000"/>
            <a:ext cx="3060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gotipo de la compañía o casa comercial que fabrica el perf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6119640" y="2519280"/>
            <a:ext cx="3060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ráficos e imágenes relacionados con la idea del perf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"/>
          <p:cNvPicPr/>
          <p:nvPr/>
        </p:nvPicPr>
        <p:blipFill>
          <a:blip r:embed="rId2"/>
          <a:stretch/>
        </p:blipFill>
        <p:spPr>
          <a:xfrm>
            <a:off x="1619280" y="3959280"/>
            <a:ext cx="3060720" cy="2879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"/>
          <p:cNvPicPr/>
          <p:nvPr/>
        </p:nvPicPr>
        <p:blipFill>
          <a:blip r:embed="rId3"/>
          <a:stretch/>
        </p:blipFill>
        <p:spPr>
          <a:xfrm>
            <a:off x="5759280" y="3780000"/>
            <a:ext cx="2794320" cy="28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" descr=""/>
          <p:cNvPicPr/>
          <p:nvPr/>
        </p:nvPicPr>
        <p:blipFill>
          <a:blip r:embed="rId1"/>
          <a:stretch/>
        </p:blipFill>
        <p:spPr>
          <a:xfrm>
            <a:off x="3240000" y="-179280"/>
            <a:ext cx="6661080" cy="8101080"/>
          </a:xfrm>
          <a:prstGeom prst="rect">
            <a:avLst/>
          </a:prstGeom>
          <a:ln w="0">
            <a:noFill/>
          </a:ln>
        </p:spPr>
      </p:pic>
      <p:sp>
        <p:nvSpPr>
          <p:cNvPr id="58" name="Text Box 2"/>
          <p:cNvSpPr/>
          <p:nvPr/>
        </p:nvSpPr>
        <p:spPr>
          <a:xfrm>
            <a:off x="360360" y="720720"/>
            <a:ext cx="2340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AU DE TOIL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AU DE PARF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"/>
          <p:cNvPicPr/>
          <p:nvPr/>
        </p:nvPicPr>
        <p:blipFill>
          <a:blip r:embed="rId1"/>
          <a:stretch/>
        </p:blipFill>
        <p:spPr>
          <a:xfrm>
            <a:off x="1800360" y="1074600"/>
            <a:ext cx="1990440" cy="1986120"/>
          </a:xfrm>
          <a:prstGeom prst="rect">
            <a:avLst/>
          </a:prstGeom>
          <a:ln w="0">
            <a:noFill/>
          </a:ln>
        </p:spPr>
      </p:pic>
      <p:sp>
        <p:nvSpPr>
          <p:cNvPr id="60" name="Text Box 2"/>
          <p:cNvSpPr/>
          <p:nvPr/>
        </p:nvSpPr>
        <p:spPr>
          <a:xfrm>
            <a:off x="3780000" y="900000"/>
            <a:ext cx="4309920" cy="34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0" spc="-1" strike="noStrike">
                <a:solidFill>
                  <a:srgbClr val="000000"/>
                </a:solidFill>
                <a:latin typeface="Arial"/>
              </a:rPr>
              <a:t>50ml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876240" y="3600360"/>
            <a:ext cx="8460000" cy="367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¿Qué significa este símbolo seguido de una cantida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"/>
          <p:cNvPicPr/>
          <p:nvPr/>
        </p:nvPicPr>
        <p:blipFill>
          <a:blip r:embed="rId1"/>
          <a:stretch/>
        </p:blipFill>
        <p:spPr>
          <a:xfrm>
            <a:off x="2519280" y="552600"/>
            <a:ext cx="4654800" cy="3408120"/>
          </a:xfrm>
          <a:prstGeom prst="rect">
            <a:avLst/>
          </a:prstGeom>
          <a:ln w="0">
            <a:noFill/>
          </a:ln>
        </p:spPr>
      </p:pic>
      <p:sp>
        <p:nvSpPr>
          <p:cNvPr id="63" name="Text Box 2"/>
          <p:cNvSpPr/>
          <p:nvPr/>
        </p:nvSpPr>
        <p:spPr>
          <a:xfrm>
            <a:off x="876240" y="4680000"/>
            <a:ext cx="846000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ódigo de barras: contiene información sobre el producto, según unas reglas, que puede leerse al escanear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" descr=""/>
          <p:cNvPicPr/>
          <p:nvPr/>
        </p:nvPicPr>
        <p:blipFill>
          <a:blip r:embed="rId1"/>
          <a:stretch/>
        </p:blipFill>
        <p:spPr>
          <a:xfrm>
            <a:off x="3003480" y="900000"/>
            <a:ext cx="2936880" cy="2700360"/>
          </a:xfrm>
          <a:prstGeom prst="rect">
            <a:avLst/>
          </a:prstGeom>
          <a:ln w="0">
            <a:noFill/>
          </a:ln>
        </p:spPr>
      </p:pic>
      <p:sp>
        <p:nvSpPr>
          <p:cNvPr id="65" name="Text Box 2"/>
          <p:cNvSpPr/>
          <p:nvPr/>
        </p:nvSpPr>
        <p:spPr>
          <a:xfrm>
            <a:off x="900000" y="4319640"/>
            <a:ext cx="846000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ímbolo del reciclaj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dica que el producto puede ser recicl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1"/>
          <p:cNvSpPr/>
          <p:nvPr/>
        </p:nvSpPr>
        <p:spPr>
          <a:xfrm>
            <a:off x="900000" y="1260360"/>
            <a:ext cx="8460000" cy="38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grediente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esde 2005, es necesario por ley en la UE incluir en la lista de ingredientes si el producto contiene alguno de los 26 alérgenos conocidos para perfumes </a:t>
            </a:r>
            <a:r>
              <a:rPr b="0" lang="en-GB" sz="44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es.paperblog.com/perfumes-obras-maestras-en-peligro-ii-368362/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1"/>
          <p:cNvSpPr/>
          <p:nvPr/>
        </p:nvSpPr>
        <p:spPr>
          <a:xfrm>
            <a:off x="1079640" y="944640"/>
            <a:ext cx="8675640" cy="26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Arial"/>
              </a:rPr>
              <a:t>Pensad además en los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Arial"/>
              </a:rPr>
              <a:t>posibles nombres para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Arial"/>
              </a:rPr>
              <a:t>vuestros perfumes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917640" y="3824280"/>
            <a:ext cx="37623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Arial"/>
              </a:rPr>
              <a:t>MYSTIQU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1619280" y="5400720"/>
            <a:ext cx="17557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Arial"/>
              </a:rPr>
              <a:t>VID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5040360" y="5400720"/>
            <a:ext cx="31528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Arial"/>
              </a:rPr>
              <a:t>MAN-IAC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5759280" y="3824280"/>
            <a:ext cx="37497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Arial"/>
              </a:rPr>
              <a:t>JUST BE ..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edro</dc:creator>
  <dc:description/>
  <dc:language>en-US</dc:language>
  <cp:lastModifiedBy>usuario</cp:lastModifiedBy>
  <dcterms:modified xsi:type="dcterms:W3CDTF">2011-05-08T21:15:31Z</dcterms:modified>
  <cp:revision>2</cp:revision>
  <dc:subject/>
  <dc:title>Diapositiva 1</dc:title>
</cp:coreProperties>
</file>